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D471-1FFD-4C4A-AB33-096CE9DD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4A0-B02A-417C-8F6D-FCE8753FD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2456C-DC72-4B94-BE7E-8005EB35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70204-97C3-492E-B900-AA24608A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30887-80B3-420D-AA68-8A6637D3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B403D-DA30-42EF-8D84-53B0118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EFCAE-E07D-45E6-80B8-3DA898F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5995C0-9E91-4BEB-8FC2-839004BE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468E19-739D-4E50-9DF5-85496C3B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D29AD-CD11-46A4-BBFE-61A2B6A3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364FA-1AF4-450F-845C-E845E508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75F01-83D3-4B6F-9AA8-D9176EF7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5514-6366-4E1D-977D-8AECA21BE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71669D-8E09-45D3-B3CF-F092FF447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99145-8F52-41D1-8780-11D107E8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44474C-83C4-4F17-AB2C-22B9F20D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8EF6E-E3DF-4B2C-8FB8-AA979F67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7D5CB5-AB7D-4D85-9FDD-808C86CF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AA00F-A8EE-4741-A645-8A900D83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AC647B-E41B-4C91-A811-F2A80892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5794D-7958-4A3F-BC00-A6B2F3BF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7392D-FCB8-4D65-A69A-6D15738E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8155F1-D560-4A87-9A3C-E865A209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BC7-A53C-4CFC-A617-C98B9A1A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A0B257-9A63-4D33-971A-82CFB0B7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E9D55-82E8-4E7B-82C8-E3502E513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DE37F1-C061-4754-A516-A8995CEDD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068B22-A160-4B56-A0EB-5575ED24A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95FD37-530D-43E4-AEA2-43B1D3BE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A27C96-96EE-4646-A47B-1C6E250B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DDAD4-9699-4F86-AC3A-D884AA4B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1854F-A047-4990-A467-C31DFD18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9F4D-C374-4B8F-AD4E-E461AB82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59BE12-A2B6-4007-B7B7-32A72715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998E-5CD1-4BBF-BD54-0674FEAF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B49AD-F059-48FF-83AF-D8332D595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C15B9-EBB2-47DE-AE25-8C19F6869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3C201-D68E-4178-A64A-7E083C711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CEC27B-5AB4-46A3-88B5-EF776B50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16947-A2F2-4DF6-B7C4-40A50AB58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12D46-7CC8-4B36-8D96-3482C001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D0079-E82A-42B3-A9E9-725BFECC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13B0FE-98F5-4C42-B4C1-9468C2E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66AF1-E61A-488D-8939-24FE9B2B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DD8C8-1A9A-43B9-A5FD-88191FFE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379E-C22B-44E2-B76C-21E5486C1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074662-78E3-437E-BA8E-A1451D11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0FB467-0916-4AA1-BF4E-F1AA954A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8BF95-6CC5-4EBE-861D-9BE4B9B4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B67EC7-2A56-4B2D-A8AA-AC3A9FA6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BA477-8F65-4576-9788-FC175A6EE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59AA0-C255-4EA8-BACE-4016DFFF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883ED9-0565-407C-9070-79792953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34178-35EC-4AC3-9D37-44E072CF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90D355-9CF7-4F6C-B13C-5B46DA16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340E7-1539-4DE0-901A-E0215CBE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709B-85E2-4700-95ED-BE10BD9D8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CEB21B-35D3-4647-8AAE-A6B205A9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BC4D1-98DD-48D1-A603-80E01D158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E6B81A-10E1-4B66-B913-42017B07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6D6388-C246-4142-8BF1-D1998A6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B8B2CE-FD40-40B6-8661-A102E276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652F4D-17E7-4A0F-B5FA-0BA0B361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E26254-2DFC-45D8-A8A4-5B468A6EF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8CA808-3FFF-4627-910D-BD9A36FB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ED9EC-7335-474F-BFB7-83014775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EC7CA9-85BC-4E9A-8138-75D8A978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9E75-20FB-4972-BD9A-4983511D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41186B-B155-4869-9285-EBA3BA5E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7B989-6D9D-43EE-876F-4AFBFCABF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232E43-ED89-47A2-8601-3DF9F84F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F25F10-3064-4299-9771-7A9CF972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509FF4-C503-48C2-A6E2-BC6BCCDC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68D60-D9CD-4540-B70A-19F07DF5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61921B-D4B7-4897-BE36-0E3DD826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101EBA-6B8D-4717-9928-5DDB6D341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4F234-325C-4BF7-A80E-E33B5886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3881B-8FEF-456A-BD2D-82EC8DA7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EEE7-8B66-40A7-AE83-6AFAB26D6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28F10-40F6-47FF-9630-CF5C2C49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0CF929-FD06-4AC6-A733-0067DF7E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1F8EAB-A04E-47B8-B79E-899779A0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E65FE-8950-439A-A469-4B392E4B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4575FB-2812-4299-A14C-5B6E253E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2325E5-03F1-4C0C-994E-FC2305A0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EC69E-9F95-4F31-9FAC-DD203FA2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B9A92-93F7-414E-B978-0ADC7CFC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76986F-8CC8-482E-8B80-A5B07D81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88C09-0D3C-43AA-8572-1CD602BA4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4953-0951-458A-BC96-D42619CE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20EAD9-602E-4740-83CD-83AC1298E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1D37E5-8CEC-49CB-9208-42105E1F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B51B8-FE62-4B2E-A832-5354DD9DD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16FB61-CE71-4EF1-B854-E0D0869C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22A66-B949-40C2-BC6B-A42DAE0DD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2F5D5C-419A-4F06-A745-B0DABE483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63B422-3F37-4548-977D-77C4C5CEB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5388C4-DC75-4C42-898E-23C96633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311522-A8A8-4FDC-9CE6-5DF41555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2C8D07-D0B4-4E96-9FBC-71A8195D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DA25-793D-45F7-89D1-AA2F035D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85EF53-A4CF-4D57-9BEA-55E547E1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8E7164-FAC2-491B-A5D0-C7A0D199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844CE1-AB43-45CA-B38B-77A6908B9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89CF44-6325-4FD7-ABCE-0BE29E5A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857049-5EF7-476D-B023-F98E259E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EAB5F-90EA-42E1-A58F-644E93F2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49FA4-DF32-4E01-AC28-EDAC4738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9331FE-B2FD-4492-9CD0-F150E63C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4C412-329E-4753-AC03-70FE0148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B61ACE-DC3B-4EBE-BCBA-89033483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01FC-FE2E-48B7-8182-98CD6BC4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5765-B4C2-4656-B368-802914D0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95A18-0B9F-4E01-8F32-2D1786F1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1347F-19A6-4E32-9F6D-EAA7B1CB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0F276F-2FE7-4EE7-ABE9-E522B5B4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3FCFDD-34B6-496D-B031-8557B8EF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0054F9-5CEC-4756-96BA-42459D0B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ACCABD-5986-4D83-9C3F-790FAE576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1945B5-4D8B-4E25-ADFD-B57BCFDB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359026-29B0-4654-A4B9-1D156F6E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AD5AE-0622-478D-9D1C-4C62DE51A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3A944-486F-4757-B936-69CF3810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EE6A-073D-486E-841E-C7820001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CED4DF-3AFE-4550-ABD8-8BB77A95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1E9ED3-7954-4A23-A14E-0641243E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677805-6548-4F66-ACC3-FC3A80A5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83B430-D315-4B1D-8CD6-A69FC87D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EEF381-1C2A-4294-B38E-D5F5BCC4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1C065F-1CC8-4F2B-AEE6-D3E143C0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F3C18B-B0B2-4CC3-96AC-4BB7945E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7D5C06-3872-4E1E-B41D-DA15E150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6BCF38-450E-4867-B25D-B3584A7E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A462F2-ABD5-4C1A-BFD1-A30AC2C25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411E-C76E-4A14-952D-A287C335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18E187-6F88-45ED-8953-14E3BA18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013136-850B-4CDB-BC63-A43B87BBF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289A9-EED3-4481-BDA2-64A7B34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F403C9-4650-40B1-91B2-B0A2D1AB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A40635-9C50-4569-B3CA-FD9E8BD4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42DAF3-70CA-450F-8EC4-5166B99E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50FEB6-7430-4540-B548-43AAD81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BCC2D-6726-4A70-AFB3-79EFD8D34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CAE9BB-9C9F-4417-9C8D-AFF2C745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2425B-2E04-4067-AC7E-801313AC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3D45-06AB-4E6B-9C24-75AC3EA27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DD362-4F70-4F61-8BC6-7D523088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67FC1-8CF6-4FC8-ABB0-55ED7815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453B0D-FF3E-4BE4-AD5D-A841F210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0E6B5C-9663-4821-8967-C3C5EC6E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42AB2F-8314-4B0F-81C3-16CCBBF7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8C1EAF-FECF-49D4-A247-BB7DBADB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22824C-406C-423D-915C-FB38512F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E34026-2018-4294-A5A3-87A1A02C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4A29FB-7E97-42A6-A9BE-CD7C23CA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52207A-E376-4ADF-925C-C5128C1A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7686-FE14-465D-90B9-640C0C551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80F0A-6461-437D-AB68-06556C80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55D9F9-98FA-4A71-86EE-21FA75CA0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FD4B7B-5E8A-4222-BFEE-73292589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BAD95D-1C3D-4AD9-B487-9E7026475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465152-5DC5-448B-903A-B9C75C47C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D10C0E-4B3E-4B71-A4EC-7297D874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ACAFFC-8B50-4007-A4D6-28EECD87D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17C154-0D09-4D60-A249-9842C927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61E6F8-162C-4C3C-8B55-DE55A7B8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CAAE752-9FC4-4144-AFBE-83A4B994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8759B-39F2-4CCE-8CE0-9322238FF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22891-C055-4FD8-8BB4-86450D55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37C024-CC95-4BB3-9067-0177EFCD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F9EE0C-9AE6-4163-AEB7-F3DDAB974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49C0F-C0DD-4F43-BE81-13D7F3A8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5A5B4-9FDA-4FA6-83DB-883B096E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5CF8A-639D-4354-AAC2-F697060D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6A8EC-9FDB-42C0-9C64-A2C64B67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E593-02F4-4733-845B-15D6B880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8CD0F-FB70-4A21-8910-D5ADE1D1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D9C58-863F-42DA-98EC-0583252E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B6C8-A4A1-46B5-93F7-1C7E7578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EE8C-7B2B-43BC-99AF-AAD8FEC0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66640-1413-47C0-8F10-BAFFDD8F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F0BFD-B376-4817-B048-22D58748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33CE8-FBE2-4116-87BC-453688C70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1C5A6-FCF8-47C1-8168-1637FD7FA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5D871-B3B9-44B5-B12D-C97B5D9E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28E4B-7465-4985-A885-8DD88758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7EC9-5235-40C4-BC69-E6773B46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92A19-04E0-4394-90C0-90F85F167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83C9B-79B2-4D87-BE51-3D9DA0CA2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1D645-494A-4766-ACA5-C9BCCB0D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46B06-B4A5-413B-990E-B3214813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B4EC9-D48D-447A-AE3C-7BCC2DD0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146A5-0BA5-4A99-9885-CFAA7748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6EE04-355F-4104-8061-F2ECC910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9DE30-E630-48A5-98CE-56307B392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58C97-7FBF-4690-BC7E-2F9349F4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276F8-D3D5-4C1A-8791-320332BC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BA5-9B7F-4027-8DE1-CC30B1AA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47E44-2CD3-4D7C-9E39-63D192F7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C0B54-B6A3-41CC-88A9-55033A4C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D16B4-101C-4F31-BBBC-B4751B9A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BC6CA-BE7B-4ECD-837F-99A9E30D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1A971-3AD3-47F2-82A7-32A52399F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6FF67-75F7-486F-8806-7F0EB1DA5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E497C-73A6-40DA-AA05-3BAE0DC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92D35-214F-4F06-9E2D-BEA848D1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46633-43E8-4C23-8009-98563AEA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D6421-8CAD-4F05-AE30-BFDE91FD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E7BE-8FA8-4DA2-ADF3-654817AA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0FF07-E06E-4B51-8DA6-0C0C4499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14037-4352-46D1-AA8B-9D85DADE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AF71C-344F-4328-9666-4B6911664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E815B-1C1A-415A-B852-45ED23844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5C315-6BBB-4A90-A44A-1887EEE0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22DA2-C329-4245-8FA6-28C88396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01F08-E080-49A7-9361-E38A754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1E7AC-156E-4833-9390-DE5C4626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43199E-E81E-447B-AB62-2DEA44A0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BF1DA-1514-4762-9C44-65D391D5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25F4-C1E4-49F6-A502-567DA596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5BCAE-E3AE-46CE-B37A-6475D56E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5CFD5-A7F9-4989-8BAB-4B2A30B6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254E1-3C1E-472C-82F1-01D7B3D37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DEC30-480B-4886-BDC3-F19C496F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24F1CA-1DB9-40D7-B3C0-B807A38C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8D3A9-7B4E-4141-8E24-C9C0745C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58F63-E4A1-43D9-BEB1-DED42D76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6C343-1848-498A-8418-273E7AB8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3BC33-CBB7-4AF3-B735-44FB1C58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1BA17-BD58-4C6D-B2F6-D57FF334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68BB-ECAB-4068-8534-B6F66C4A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2F14-2B27-43A1-9194-9A56A85A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FAC13-87F6-49D4-9162-14564614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979AB-246F-47E0-9FFF-37C0CE34C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C2E77-811A-4A85-A02F-FE8344B0A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389D3-494B-4FA9-8305-7B7937C2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81C46-6B20-4B01-98EC-DA9F8F89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1A28B-5E36-4EFD-AA02-05CF9282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D6953-C1D0-47BB-950B-380B9FFD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FC9D9-FC93-42FA-885F-C06421A1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80586-4454-405A-A454-0F054CE3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8F2A-9361-4841-94A9-6C1A27A0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59C8A-C029-41D8-A170-3FC6ACF9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2DF1E-FB45-4FAE-8C12-46F08C6D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1A9C5-3A7B-4EFF-AF4A-543C7B5B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6A63AF-5717-4F7A-B00E-39896832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5EED9-3507-4FFB-B815-5A65A004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D808B-C9C6-4307-AF45-968BEB5D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3D6E8-F22E-429C-A761-B80465DBE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5F0B36-DD46-4C70-9893-8C5FAF205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484E4-434F-42E3-B7E1-84856CC2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9BA763-690F-4050-98BF-891D78B8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2456-2A72-4544-8691-2DEAFCFA5A2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6866-6C0A-46A4-8E14-91FE3E8894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B62C-9DA3-41BA-A617-E403BB2DAE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9A47-B079-4DEE-8290-94AA7AEC0A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5D0F-6E40-48B1-B334-29A43CD1A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54D2-D177-430A-98DF-C3829AD2A7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BD4F-6A85-4A2B-BB83-925E13D2D4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0BEE-75FC-4126-AF7B-212393D8AD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948F-A273-46B2-8986-73A0DCE4B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1A94-83AC-4A4B-B87E-5D525850B2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3D59-F5AB-429F-B054-3C146192D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7222-BE86-4858-8489-0A4591055C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C007-B9DC-4407-BFF2-58E03898C3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060-0DDD-4F61-BBA7-6ED4B0EE44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ABFE-13DC-4DDE-92B0-1CA0A86C18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E9A3-0311-4941-B3B5-E4EC0409FB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5C01-9844-4436-8D92-1B307FD9D2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8F905-BCC6-42D0-ABDC-A67272B8D8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7AB1-5D72-4F92-A1B1-2F4D1E23CC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406F-B538-409F-9E72-CA2EC5201B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E118-93A7-4755-BD38-7D8B174BF9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3D3C6-A3A4-44BC-9839-E505AD91AB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3E88-75D4-49BF-84E3-34D03E081D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3E78-B2A1-4EF3-BF51-0A53F42BE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DC294-C450-4E72-B88B-199962E6B4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7D46-47CF-43C9-887F-03FDD894580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DAF7-8F22-41B7-82EE-8493D78CC6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88B6-DD07-4172-A262-701696A553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3276-4D05-445D-8EC4-87AEA2172E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3C1A-44FA-4217-A402-00A8593F8A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BEA4-AE10-4CA5-8AE6-78C2BDE0D0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7C87-FF02-408E-8FE9-27117BD84C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3CAF-831B-4E72-9B0B-3AD4A2F317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D471-0353-4558-8CFD-9F87246CFE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8D35-A9A0-4070-9BD4-505AC6FA73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56A0B-B463-4D52-A31D-55B5EE4CEC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0FE6-57C8-4C9E-BC85-A30AD2A882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4526-8387-4BAD-8F64-483F073137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8E0D9-A94B-4E08-94F0-151100A4D5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41AC-82B1-47C2-A7BF-8E3E66C227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7796160" cy="101916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1895400" y="3551400"/>
            <a:ext cx="5353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69633" descr=""/>
          <p:cNvPicPr/>
          <p:nvPr/>
        </p:nvPicPr>
        <p:blipFill>
          <a:blip r:embed="rId1"/>
          <a:stretch/>
        </p:blipFill>
        <p:spPr>
          <a:xfrm>
            <a:off x="271440" y="1114560"/>
            <a:ext cx="8601120" cy="46288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2"/>
          <a:stretch/>
        </p:blipFill>
        <p:spPr>
          <a:xfrm>
            <a:off x="8028000" y="4724280"/>
            <a:ext cx="5032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9" name="图片 68609" descr=""/>
          <p:cNvPicPr/>
          <p:nvPr/>
        </p:nvPicPr>
        <p:blipFill>
          <a:blip r:embed="rId1"/>
          <a:stretch/>
        </p:blipFill>
        <p:spPr>
          <a:xfrm>
            <a:off x="195120" y="189000"/>
            <a:ext cx="8753760" cy="63435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7956720" y="706320"/>
            <a:ext cx="502920" cy="424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6659640" y="6021360"/>
            <a:ext cx="165744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图片 67585" descr=""/>
          <p:cNvPicPr/>
          <p:nvPr/>
        </p:nvPicPr>
        <p:blipFill>
          <a:blip r:embed="rId1"/>
          <a:stretch/>
        </p:blipFill>
        <p:spPr>
          <a:xfrm>
            <a:off x="243000" y="919080"/>
            <a:ext cx="8658000" cy="50198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2"/>
          <a:stretch/>
        </p:blipFill>
        <p:spPr>
          <a:xfrm>
            <a:off x="684360" y="3774960"/>
            <a:ext cx="4895640" cy="42408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3"/>
          <a:stretch/>
        </p:blipFill>
        <p:spPr>
          <a:xfrm>
            <a:off x="684360" y="4365720"/>
            <a:ext cx="4895640" cy="423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4"/>
          <a:stretch/>
        </p:blipFill>
        <p:spPr>
          <a:xfrm>
            <a:off x="539640" y="4941720"/>
            <a:ext cx="4896000" cy="42408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5"/>
          <a:stretch/>
        </p:blipFill>
        <p:spPr>
          <a:xfrm>
            <a:off x="611280" y="5459400"/>
            <a:ext cx="597672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图片 66561" descr=""/>
          <p:cNvPicPr/>
          <p:nvPr/>
        </p:nvPicPr>
        <p:blipFill>
          <a:blip r:embed="rId1"/>
          <a:stretch/>
        </p:blipFill>
        <p:spPr>
          <a:xfrm>
            <a:off x="1638360" y="2405160"/>
            <a:ext cx="5867280" cy="20476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2"/>
          <a:stretch/>
        </p:blipFill>
        <p:spPr>
          <a:xfrm>
            <a:off x="1389240" y="2421000"/>
            <a:ext cx="4032000" cy="4237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3"/>
          <a:stretch/>
        </p:blipFill>
        <p:spPr>
          <a:xfrm>
            <a:off x="5435640" y="2421000"/>
            <a:ext cx="3024000" cy="4237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4"/>
          <a:stretch/>
        </p:blipFill>
        <p:spPr>
          <a:xfrm>
            <a:off x="1332000" y="2952720"/>
            <a:ext cx="6408720" cy="4237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5"/>
          <a:stretch/>
        </p:blipFill>
        <p:spPr>
          <a:xfrm>
            <a:off x="1258920" y="3573360"/>
            <a:ext cx="640872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图片 65537" descr=""/>
          <p:cNvPicPr/>
          <p:nvPr/>
        </p:nvPicPr>
        <p:blipFill>
          <a:blip r:embed="rId1"/>
          <a:stretch/>
        </p:blipFill>
        <p:spPr>
          <a:xfrm>
            <a:off x="339840" y="189000"/>
            <a:ext cx="8696160" cy="64292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2"/>
          <a:stretch/>
        </p:blipFill>
        <p:spPr>
          <a:xfrm>
            <a:off x="826920" y="2506680"/>
            <a:ext cx="4249800" cy="4237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3"/>
          <a:stretch/>
        </p:blipFill>
        <p:spPr>
          <a:xfrm>
            <a:off x="684360" y="3141720"/>
            <a:ext cx="7416720" cy="7920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4"/>
          <a:stretch/>
        </p:blipFill>
        <p:spPr>
          <a:xfrm>
            <a:off x="826920" y="4135320"/>
            <a:ext cx="7417080" cy="79236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5"/>
          <a:stretch/>
        </p:blipFill>
        <p:spPr>
          <a:xfrm>
            <a:off x="684360" y="5070600"/>
            <a:ext cx="8280360" cy="4237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6"/>
          <a:stretch/>
        </p:blipFill>
        <p:spPr>
          <a:xfrm>
            <a:off x="468360" y="5589720"/>
            <a:ext cx="8280360" cy="42372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7"/>
          <a:stretch/>
        </p:blipFill>
        <p:spPr>
          <a:xfrm>
            <a:off x="468360" y="6237360"/>
            <a:ext cx="828036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图片 64513" descr=""/>
          <p:cNvPicPr/>
          <p:nvPr/>
        </p:nvPicPr>
        <p:blipFill>
          <a:blip r:embed="rId1"/>
          <a:stretch/>
        </p:blipFill>
        <p:spPr>
          <a:xfrm>
            <a:off x="223920" y="1795320"/>
            <a:ext cx="869616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63489" descr=""/>
          <p:cNvPicPr/>
          <p:nvPr/>
        </p:nvPicPr>
        <p:blipFill>
          <a:blip r:embed="rId1"/>
          <a:stretch/>
        </p:blipFill>
        <p:spPr>
          <a:xfrm>
            <a:off x="371520" y="1181160"/>
            <a:ext cx="8400960" cy="449568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468360" y="1211400"/>
            <a:ext cx="5327640" cy="42372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395280" y="1773360"/>
            <a:ext cx="5327640" cy="42372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395280" y="2349360"/>
            <a:ext cx="5327640" cy="42408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395280" y="2924280"/>
            <a:ext cx="5327640" cy="42372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6"/>
          <a:stretch/>
        </p:blipFill>
        <p:spPr>
          <a:xfrm>
            <a:off x="395280" y="3500280"/>
            <a:ext cx="6192720" cy="42408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7"/>
          <a:stretch/>
        </p:blipFill>
        <p:spPr>
          <a:xfrm>
            <a:off x="539640" y="4076640"/>
            <a:ext cx="8280360" cy="42408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8"/>
          <a:stretch/>
        </p:blipFill>
        <p:spPr>
          <a:xfrm>
            <a:off x="539640" y="4653000"/>
            <a:ext cx="8280360" cy="42372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9"/>
          <a:stretch/>
        </p:blipFill>
        <p:spPr>
          <a:xfrm>
            <a:off x="468360" y="5172120"/>
            <a:ext cx="828036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62465" descr=""/>
          <p:cNvPicPr/>
          <p:nvPr/>
        </p:nvPicPr>
        <p:blipFill>
          <a:blip r:embed="rId1"/>
          <a:stretch/>
        </p:blipFill>
        <p:spPr>
          <a:xfrm>
            <a:off x="237960" y="1395360"/>
            <a:ext cx="86680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图片 61441" descr=""/>
          <p:cNvPicPr/>
          <p:nvPr/>
        </p:nvPicPr>
        <p:blipFill>
          <a:blip r:embed="rId1"/>
          <a:stretch/>
        </p:blipFill>
        <p:spPr>
          <a:xfrm>
            <a:off x="447840" y="1724040"/>
            <a:ext cx="8248320" cy="340992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2"/>
          <a:stretch/>
        </p:blipFill>
        <p:spPr>
          <a:xfrm>
            <a:off x="539640" y="1801800"/>
            <a:ext cx="4896000" cy="42372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468360" y="2363760"/>
            <a:ext cx="1511280" cy="42372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4"/>
          <a:stretch/>
        </p:blipFill>
        <p:spPr>
          <a:xfrm>
            <a:off x="1979640" y="2363760"/>
            <a:ext cx="3168720" cy="42372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5"/>
          <a:stretch/>
        </p:blipFill>
        <p:spPr>
          <a:xfrm>
            <a:off x="468360" y="2924280"/>
            <a:ext cx="1511280" cy="42372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6"/>
          <a:stretch/>
        </p:blipFill>
        <p:spPr>
          <a:xfrm>
            <a:off x="468360" y="3514680"/>
            <a:ext cx="4535280" cy="42408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7"/>
          <a:stretch/>
        </p:blipFill>
        <p:spPr>
          <a:xfrm>
            <a:off x="395280" y="4091040"/>
            <a:ext cx="2016000" cy="42372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8"/>
          <a:stretch/>
        </p:blipFill>
        <p:spPr>
          <a:xfrm>
            <a:off x="2411280" y="4091040"/>
            <a:ext cx="3168720" cy="42372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9"/>
          <a:stretch/>
        </p:blipFill>
        <p:spPr>
          <a:xfrm>
            <a:off x="395280" y="4724280"/>
            <a:ext cx="201600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70657" descr=""/>
          <p:cNvPicPr/>
          <p:nvPr/>
        </p:nvPicPr>
        <p:blipFill>
          <a:blip r:embed="rId1"/>
          <a:stretch/>
        </p:blipFill>
        <p:spPr>
          <a:xfrm>
            <a:off x="466560" y="1757520"/>
            <a:ext cx="8210880" cy="334296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2"/>
          <a:stretch/>
        </p:blipFill>
        <p:spPr>
          <a:xfrm>
            <a:off x="539640" y="1787400"/>
            <a:ext cx="8064720" cy="4240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64360" cy="4240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4"/>
          <a:stretch/>
        </p:blipFill>
        <p:spPr>
          <a:xfrm>
            <a:off x="468360" y="2938320"/>
            <a:ext cx="8064360" cy="4240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5"/>
          <a:stretch/>
        </p:blipFill>
        <p:spPr>
          <a:xfrm>
            <a:off x="395280" y="3514680"/>
            <a:ext cx="8064360" cy="4240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6"/>
          <a:stretch/>
        </p:blipFill>
        <p:spPr>
          <a:xfrm>
            <a:off x="395280" y="4076640"/>
            <a:ext cx="8064360" cy="4240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7"/>
          <a:stretch/>
        </p:blipFill>
        <p:spPr>
          <a:xfrm>
            <a:off x="395280" y="4653000"/>
            <a:ext cx="806436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4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9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4" dur="1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9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4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1790640" y="744480"/>
            <a:ext cx="5877000" cy="59245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3276720" y="2338560"/>
            <a:ext cx="1726920" cy="4060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2411280" y="3630600"/>
            <a:ext cx="2232000" cy="4064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5003640" y="4465800"/>
            <a:ext cx="1729080" cy="406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4500720" y="4941720"/>
            <a:ext cx="1439640" cy="4064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3635280" y="5380200"/>
            <a:ext cx="1368360" cy="3855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6012000" y="5791320"/>
            <a:ext cx="1152360" cy="38556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3564000" y="6237360"/>
            <a:ext cx="1152360" cy="3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图片 59410" descr=""/>
          <p:cNvPicPr/>
          <p:nvPr/>
        </p:nvPicPr>
        <p:blipFill>
          <a:blip r:embed="rId1"/>
          <a:stretch/>
        </p:blipFill>
        <p:spPr>
          <a:xfrm>
            <a:off x="1662120" y="1452600"/>
            <a:ext cx="58197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58373" descr=""/>
          <p:cNvPicPr/>
          <p:nvPr/>
        </p:nvPicPr>
        <p:blipFill>
          <a:blip r:embed="rId1"/>
          <a:stretch/>
        </p:blipFill>
        <p:spPr>
          <a:xfrm>
            <a:off x="1623960" y="1733400"/>
            <a:ext cx="5896080" cy="33912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3635280" y="1657440"/>
            <a:ext cx="4176720" cy="423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4176720" cy="4237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403280" y="2565360"/>
            <a:ext cx="4176720" cy="4240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1403280" y="2997360"/>
            <a:ext cx="4176720" cy="423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6"/>
          <a:stretch/>
        </p:blipFill>
        <p:spPr>
          <a:xfrm>
            <a:off x="1332000" y="3429000"/>
            <a:ext cx="6624720" cy="4237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7"/>
          <a:stretch/>
        </p:blipFill>
        <p:spPr>
          <a:xfrm>
            <a:off x="1187280" y="3860640"/>
            <a:ext cx="6624720" cy="424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8"/>
          <a:stretch/>
        </p:blipFill>
        <p:spPr>
          <a:xfrm>
            <a:off x="1332000" y="4278240"/>
            <a:ext cx="6624720" cy="4240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9"/>
          <a:stretch/>
        </p:blipFill>
        <p:spPr>
          <a:xfrm>
            <a:off x="1258920" y="4724280"/>
            <a:ext cx="6624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7352" descr=""/>
          <p:cNvPicPr/>
          <p:nvPr/>
        </p:nvPicPr>
        <p:blipFill>
          <a:blip r:embed="rId1"/>
          <a:stretch/>
        </p:blipFill>
        <p:spPr>
          <a:xfrm>
            <a:off x="1604880" y="1704960"/>
            <a:ext cx="593424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图片 56324" descr=""/>
          <p:cNvPicPr/>
          <p:nvPr/>
        </p:nvPicPr>
        <p:blipFill>
          <a:blip r:embed="rId1"/>
          <a:stretch/>
        </p:blipFill>
        <p:spPr>
          <a:xfrm>
            <a:off x="1643040" y="900000"/>
            <a:ext cx="5857920" cy="505800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2"/>
          <a:stretch/>
        </p:blipFill>
        <p:spPr>
          <a:xfrm>
            <a:off x="3592440" y="5502240"/>
            <a:ext cx="5032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55300" descr=""/>
          <p:cNvPicPr/>
          <p:nvPr/>
        </p:nvPicPr>
        <p:blipFill>
          <a:blip r:embed="rId1"/>
          <a:stretch/>
        </p:blipFill>
        <p:spPr>
          <a:xfrm>
            <a:off x="190440" y="928800"/>
            <a:ext cx="8763120" cy="500040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8244000" y="2421000"/>
            <a:ext cx="431640" cy="36360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8244000" y="3860640"/>
            <a:ext cx="4316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8" name="组合 54278"/>
          <p:cNvGrpSpPr/>
          <p:nvPr/>
        </p:nvGrpSpPr>
        <p:grpSpPr>
          <a:xfrm>
            <a:off x="204840" y="706320"/>
            <a:ext cx="8734320" cy="5962680"/>
            <a:chOff x="204840" y="706320"/>
            <a:chExt cx="8734320" cy="5962680"/>
          </a:xfrm>
        </p:grpSpPr>
        <p:pic>
          <p:nvPicPr>
            <p:cNvPr id="1049" name="图片 54276" descr=""/>
            <p:cNvPicPr/>
            <p:nvPr/>
          </p:nvPicPr>
          <p:blipFill>
            <a:blip r:embed="rId1"/>
            <a:stretch/>
          </p:blipFill>
          <p:spPr>
            <a:xfrm>
              <a:off x="204840" y="706320"/>
              <a:ext cx="8734320" cy="59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0" name="图片 54277" descr=""/>
            <p:cNvPicPr/>
            <p:nvPr/>
          </p:nvPicPr>
          <p:blipFill>
            <a:blip r:embed="rId2"/>
            <a:stretch/>
          </p:blipFill>
          <p:spPr>
            <a:xfrm>
              <a:off x="5278320" y="3443400"/>
              <a:ext cx="3384720" cy="187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51" name="Picture 1" descr=""/>
          <p:cNvPicPr/>
          <p:nvPr/>
        </p:nvPicPr>
        <p:blipFill>
          <a:blip r:embed="rId3"/>
          <a:stretch/>
        </p:blipFill>
        <p:spPr>
          <a:xfrm>
            <a:off x="4211640" y="2046240"/>
            <a:ext cx="2089080" cy="3636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4"/>
          <a:stretch/>
        </p:blipFill>
        <p:spPr>
          <a:xfrm>
            <a:off x="3059280" y="2463840"/>
            <a:ext cx="576000" cy="3636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5"/>
          <a:stretch/>
        </p:blipFill>
        <p:spPr>
          <a:xfrm>
            <a:off x="3203640" y="2909880"/>
            <a:ext cx="576360" cy="3636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6"/>
          <a:stretch/>
        </p:blipFill>
        <p:spPr>
          <a:xfrm>
            <a:off x="5724360" y="5388120"/>
            <a:ext cx="3419640" cy="3632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7"/>
          <a:stretch/>
        </p:blipFill>
        <p:spPr>
          <a:xfrm>
            <a:off x="468360" y="5819760"/>
            <a:ext cx="1008000" cy="3636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8"/>
          <a:stretch/>
        </p:blipFill>
        <p:spPr>
          <a:xfrm>
            <a:off x="3132000" y="5834160"/>
            <a:ext cx="6012000" cy="3636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9"/>
          <a:stretch/>
        </p:blipFill>
        <p:spPr>
          <a:xfrm>
            <a:off x="525600" y="6251400"/>
            <a:ext cx="100800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组合 52233"/>
          <p:cNvGrpSpPr/>
          <p:nvPr/>
        </p:nvGrpSpPr>
        <p:grpSpPr>
          <a:xfrm>
            <a:off x="176040" y="14400"/>
            <a:ext cx="8791920" cy="6727680"/>
            <a:chOff x="176040" y="14400"/>
            <a:chExt cx="8791920" cy="6727680"/>
          </a:xfrm>
        </p:grpSpPr>
        <p:pic>
          <p:nvPicPr>
            <p:cNvPr id="1059" name="图片 52231" descr=""/>
            <p:cNvPicPr/>
            <p:nvPr/>
          </p:nvPicPr>
          <p:blipFill>
            <a:blip r:embed="rId1"/>
            <a:stretch/>
          </p:blipFill>
          <p:spPr>
            <a:xfrm>
              <a:off x="176040" y="1170000"/>
              <a:ext cx="8791920" cy="557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0" name="图片 52232" descr=""/>
            <p:cNvPicPr/>
            <p:nvPr/>
          </p:nvPicPr>
          <p:blipFill>
            <a:blip r:embed="rId2"/>
            <a:stretch/>
          </p:blipFill>
          <p:spPr>
            <a:xfrm>
              <a:off x="4356000" y="14400"/>
              <a:ext cx="2895840" cy="1685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61" name="Picture 1" descr=""/>
          <p:cNvPicPr/>
          <p:nvPr/>
        </p:nvPicPr>
        <p:blipFill>
          <a:blip r:embed="rId3"/>
          <a:stretch/>
        </p:blipFill>
        <p:spPr>
          <a:xfrm>
            <a:off x="8244000" y="1700280"/>
            <a:ext cx="431640" cy="36360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4"/>
          <a:stretch/>
        </p:blipFill>
        <p:spPr>
          <a:xfrm>
            <a:off x="6084720" y="2997360"/>
            <a:ext cx="432000" cy="36324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5"/>
          <a:stretch/>
        </p:blipFill>
        <p:spPr>
          <a:xfrm>
            <a:off x="395280" y="5127480"/>
            <a:ext cx="6121440" cy="363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6"/>
          <a:stretch/>
        </p:blipFill>
        <p:spPr>
          <a:xfrm>
            <a:off x="324000" y="5545080"/>
            <a:ext cx="6121080" cy="36360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7"/>
          <a:stretch/>
        </p:blipFill>
        <p:spPr>
          <a:xfrm>
            <a:off x="0" y="5992920"/>
            <a:ext cx="4859280" cy="3636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8"/>
          <a:stretch/>
        </p:blipFill>
        <p:spPr>
          <a:xfrm>
            <a:off x="4859280" y="5964120"/>
            <a:ext cx="18734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7:49:3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